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F40E-DF07-4B92-819F-E0987AD06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B377-F86C-46D2-B250-B9945E678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F63E-F6B6-41DA-9F9E-A5669C54F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2A21-9D9E-460F-845F-E69EAF095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5913-8C4E-4BDE-8DA3-78A25DED0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4EA9C-4A9F-4508-8DED-D70860071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8EC07-3657-48E2-B542-628756668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21D8F-0829-446B-A7DD-2A61E8B8D9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E255-879A-448B-AA1E-2ADC1279E6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F415-967F-41FC-B803-0161FA8937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FF10-85EB-45FD-8EB4-96274E4FA2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BF709-EBF7-4679-9406-FCB096474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0FF9-9EBD-4B1A-8180-300D430EDD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AFE76-5D0B-4D6A-A492-B84BAFBF96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D265-A764-46CF-A82F-766C02AA33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3515-D7B3-488C-A502-747468149C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8A60-A90B-4008-892E-CEF65A9144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5B0-04D1-4EFC-A4C6-B5E345CD4C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2B5-10BE-46DA-B879-69A07AEDF4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C43-47F5-49FF-AD8C-B8BB218F08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1EC-B672-4409-AD68-6B1860B0BD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C49-D5F5-4003-9468-F24421A82A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6A1D-D1B8-4DF4-957A-65AFEF1F31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CB2-A699-4F10-8C41-BD4160F57B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163-625F-45F9-AEB6-856DD59B4A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739-7D7F-4489-A21C-C6169F64EE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BF3-750B-4C2B-95F0-2F83D69C45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E42-529A-40C0-ADDC-C480AC7EE7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500-7D68-4167-A174-02E3F45E4C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6BD-B9F8-4AB1-B033-115141E0C7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84D64-BF66-47A1-BFDD-10DE1CF2F19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5EF98-50A4-42E3-8254-673FD59165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C36D-781F-4BE8-8C02-453C4CE62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1888-5C6B-454A-ABBA-37B65964EF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8DF23-5E1F-4E33-830E-3FE96498AF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87184-860F-475F-A3C2-A765FC30CE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89B2D-1503-4A9C-A52D-092C5CD73B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CDE43-D053-481D-B8BC-01BDB07A054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23EAB-34D0-4F98-9363-40B998E8F9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C505A-051F-4109-A812-F98E96CCFF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ACC06-B1EE-4B84-ACA1-71CE8CE20A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456FB-F375-43C7-A452-ADDFB54A1A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D9494-6E3B-409F-993E-C9A045821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41C4-8C7E-47EF-9586-95D0DF1EF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35000"/>
            <a:ext cx="11709360" cy="992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CF3B-749E-421A-8685-61B752CD3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0602-0D1D-4A23-84DA-B8FA59EF3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85E1-41C8-4A3B-9228-D3E589EE3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9C66-7334-4ABE-A786-7727FA841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A86A-D623-4C5A-81C2-F568DCC0CCF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924-5E69-4EB4-AC46-DEF496A7F58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7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45A-8030-41F9-AC5A-849060D473F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26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4"/>
          </p:nvPr>
        </p:nvSpPr>
        <p:spPr>
          <a:xfrm>
            <a:off x="10678680" y="888948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700-9449-4E3F-A191-66932D33700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Bell </a:t>
            </a:r>
            <a:br>
              <a:rPr sz="6200"/>
            </a:b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Ringer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vocab word is most important to daily life in China and w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10679040" y="8889840"/>
            <a:ext cx="3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212-F9F3-4C23-B964-2BAB9A97B2C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 5: Ma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g 6: Geo c-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10679040" y="8889840"/>
            <a:ext cx="3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730-C99A-474C-BFD5-BCBC6BE89F4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7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Ancient China Intro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5 reg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Tibetan Platea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western Dese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eastern 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North China Pla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44680" indent="-4874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Chang Jiang Bas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8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640" y="135000"/>
            <a:ext cx="11709360" cy="21398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Tibetan Plateau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Rocky soil, dry climate make growing crops difficu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"/>
              </a:rPr>
              <a:t>Early people herded animals that could survive there – mainly ya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aks provided people with meat, milk, butter, yogurt, wool for clothes and shel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19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12128400" cy="200340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200"/>
            </a:b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Basics</a:t>
            </a:r>
            <a:endParaRPr b="0" lang="en-US" sz="6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274840"/>
            <a:ext cx="13004640" cy="747864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t">
            <a:normAutofit/>
          </a:bodyPr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atural barriers isolated ancient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East: The Yellow Sea, East China Sea, and Pacific Ocea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est: Taklimakan Desert and 15,000 ft Plateau of Tib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Southwest: Himalay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North: Gobi Desert and Mongolian Plateau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ountain ranges and desert dominate 2/3 of Chin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8"/>
          <p:cNvGrpSpPr/>
          <p:nvPr/>
        </p:nvGrpSpPr>
        <p:grpSpPr>
          <a:xfrm>
            <a:off x="0" y="5548320"/>
            <a:ext cx="4835520" cy="4195800"/>
            <a:chOff x="0" y="5548320"/>
            <a:chExt cx="4835520" cy="4195800"/>
          </a:xfrm>
        </p:grpSpPr>
        <p:sp>
          <p:nvSpPr>
            <p:cNvPr id="209" name="Freeform 1"/>
            <p:cNvSpPr/>
            <p:nvPr/>
          </p:nvSpPr>
          <p:spPr>
            <a:xfrm>
              <a:off x="0" y="5661000"/>
              <a:ext cx="4835520" cy="407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329" y="790"/>
                  </a:moveTo>
                  <a:lnTo>
                    <a:pt x="1629" y="359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1629" y="503"/>
                  </a:lnTo>
                  <a:lnTo>
                    <a:pt x="3268" y="934"/>
                  </a:lnTo>
                  <a:lnTo>
                    <a:pt x="5625" y="1796"/>
                  </a:lnTo>
                  <a:lnTo>
                    <a:pt x="7861" y="2933"/>
                  </a:lnTo>
                  <a:lnTo>
                    <a:pt x="10046" y="4370"/>
                  </a:lnTo>
                  <a:lnTo>
                    <a:pt x="12100" y="6023"/>
                  </a:lnTo>
                  <a:lnTo>
                    <a:pt x="13972" y="7819"/>
                  </a:lnTo>
                  <a:lnTo>
                    <a:pt x="15732" y="9902"/>
                  </a:lnTo>
                  <a:lnTo>
                    <a:pt x="17300" y="12201"/>
                  </a:lnTo>
                  <a:lnTo>
                    <a:pt x="18757" y="14715"/>
                  </a:lnTo>
                  <a:lnTo>
                    <a:pt x="19597" y="16356"/>
                  </a:lnTo>
                  <a:lnTo>
                    <a:pt x="20325" y="18080"/>
                  </a:lnTo>
                  <a:lnTo>
                    <a:pt x="20932" y="19804"/>
                  </a:lnTo>
                  <a:lnTo>
                    <a:pt x="21479" y="21600"/>
                  </a:lnTo>
                  <a:lnTo>
                    <a:pt x="21600" y="21600"/>
                  </a:lnTo>
                  <a:lnTo>
                    <a:pt x="21054" y="19804"/>
                  </a:lnTo>
                  <a:lnTo>
                    <a:pt x="20447" y="18080"/>
                  </a:lnTo>
                  <a:lnTo>
                    <a:pt x="19718" y="16356"/>
                  </a:lnTo>
                  <a:lnTo>
                    <a:pt x="18879" y="14643"/>
                  </a:lnTo>
                  <a:lnTo>
                    <a:pt x="17422" y="12129"/>
                  </a:lnTo>
                  <a:lnTo>
                    <a:pt x="15793" y="9830"/>
                  </a:lnTo>
                  <a:lnTo>
                    <a:pt x="14032" y="7747"/>
                  </a:lnTo>
                  <a:lnTo>
                    <a:pt x="12161" y="5879"/>
                  </a:lnTo>
                  <a:lnTo>
                    <a:pt x="10107" y="4227"/>
                  </a:lnTo>
                  <a:lnTo>
                    <a:pt x="7922" y="2862"/>
                  </a:lnTo>
                  <a:lnTo>
                    <a:pt x="5686" y="1652"/>
                  </a:lnTo>
                  <a:lnTo>
                    <a:pt x="3329" y="790"/>
                  </a:lnTo>
                  <a:close/>
                  <a:moveTo>
                    <a:pt x="3329" y="79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"/>
            <p:cNvSpPr/>
            <p:nvPr/>
          </p:nvSpPr>
          <p:spPr>
            <a:xfrm>
              <a:off x="0" y="5548320"/>
              <a:ext cx="4184640" cy="419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3"/>
            <p:cNvSpPr/>
            <p:nvPr/>
          </p:nvSpPr>
          <p:spPr>
            <a:xfrm>
              <a:off x="0" y="6172200"/>
              <a:ext cx="3938760" cy="356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300" y="18861"/>
                  </a:moveTo>
                  <a:lnTo>
                    <a:pt x="20944" y="20258"/>
                  </a:lnTo>
                  <a:lnTo>
                    <a:pt x="21439" y="21600"/>
                  </a:lnTo>
                  <a:lnTo>
                    <a:pt x="21600" y="21600"/>
                  </a:lnTo>
                  <a:lnTo>
                    <a:pt x="21080" y="20121"/>
                  </a:lnTo>
                  <a:lnTo>
                    <a:pt x="20412" y="18724"/>
                  </a:lnTo>
                  <a:lnTo>
                    <a:pt x="19001" y="15847"/>
                  </a:lnTo>
                  <a:lnTo>
                    <a:pt x="17268" y="13026"/>
                  </a:lnTo>
                  <a:lnTo>
                    <a:pt x="15299" y="10355"/>
                  </a:lnTo>
                  <a:lnTo>
                    <a:pt x="13133" y="7972"/>
                  </a:lnTo>
                  <a:lnTo>
                    <a:pt x="10843" y="5835"/>
                  </a:lnTo>
                  <a:lnTo>
                    <a:pt x="8318" y="4027"/>
                  </a:lnTo>
                  <a:lnTo>
                    <a:pt x="5632" y="2383"/>
                  </a:lnTo>
                  <a:lnTo>
                    <a:pt x="2897" y="1068"/>
                  </a:lnTo>
                  <a:lnTo>
                    <a:pt x="0" y="0"/>
                  </a:lnTo>
                  <a:lnTo>
                    <a:pt x="0" y="164"/>
                  </a:lnTo>
                  <a:lnTo>
                    <a:pt x="2748" y="1219"/>
                  </a:lnTo>
                  <a:lnTo>
                    <a:pt x="5521" y="2534"/>
                  </a:lnTo>
                  <a:lnTo>
                    <a:pt x="8194" y="4178"/>
                  </a:lnTo>
                  <a:lnTo>
                    <a:pt x="10720" y="5986"/>
                  </a:lnTo>
                  <a:lnTo>
                    <a:pt x="13022" y="8122"/>
                  </a:lnTo>
                  <a:lnTo>
                    <a:pt x="15176" y="10506"/>
                  </a:lnTo>
                  <a:lnTo>
                    <a:pt x="17144" y="13149"/>
                  </a:lnTo>
                  <a:lnTo>
                    <a:pt x="18889" y="15984"/>
                  </a:lnTo>
                  <a:lnTo>
                    <a:pt x="20300" y="18861"/>
                  </a:lnTo>
                  <a:close/>
                  <a:moveTo>
                    <a:pt x="20300" y="18861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4"/>
            <p:cNvSpPr/>
            <p:nvPr/>
          </p:nvSpPr>
          <p:spPr>
            <a:xfrm>
              <a:off x="0" y="5738760"/>
              <a:ext cx="3938760" cy="3987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0" y="147"/>
                  </a:lnTo>
                  <a:lnTo>
                    <a:pt x="2599" y="1075"/>
                  </a:lnTo>
                  <a:lnTo>
                    <a:pt x="5273" y="2321"/>
                  </a:lnTo>
                  <a:lnTo>
                    <a:pt x="7798" y="3714"/>
                  </a:lnTo>
                  <a:lnTo>
                    <a:pt x="10125" y="5400"/>
                  </a:lnTo>
                  <a:lnTo>
                    <a:pt x="12353" y="7233"/>
                  </a:lnTo>
                  <a:lnTo>
                    <a:pt x="14408" y="9358"/>
                  </a:lnTo>
                  <a:lnTo>
                    <a:pt x="16215" y="11509"/>
                  </a:lnTo>
                  <a:lnTo>
                    <a:pt x="17998" y="14001"/>
                  </a:lnTo>
                  <a:lnTo>
                    <a:pt x="19013" y="15858"/>
                  </a:lnTo>
                  <a:lnTo>
                    <a:pt x="19978" y="17788"/>
                  </a:lnTo>
                  <a:lnTo>
                    <a:pt x="20820" y="19743"/>
                  </a:lnTo>
                  <a:lnTo>
                    <a:pt x="21451" y="21600"/>
                  </a:lnTo>
                  <a:lnTo>
                    <a:pt x="21600" y="21600"/>
                  </a:lnTo>
                  <a:lnTo>
                    <a:pt x="20932" y="19621"/>
                  </a:lnTo>
                  <a:lnTo>
                    <a:pt x="20090" y="17654"/>
                  </a:lnTo>
                  <a:lnTo>
                    <a:pt x="19149" y="15736"/>
                  </a:lnTo>
                  <a:lnTo>
                    <a:pt x="18109" y="13879"/>
                  </a:lnTo>
                  <a:lnTo>
                    <a:pt x="16339" y="11386"/>
                  </a:lnTo>
                  <a:lnTo>
                    <a:pt x="14520" y="9224"/>
                  </a:lnTo>
                  <a:lnTo>
                    <a:pt x="12477" y="7098"/>
                  </a:lnTo>
                  <a:lnTo>
                    <a:pt x="10237" y="5266"/>
                  </a:lnTo>
                  <a:lnTo>
                    <a:pt x="7947" y="3580"/>
                  </a:lnTo>
                  <a:lnTo>
                    <a:pt x="5409" y="2187"/>
                  </a:lnTo>
                  <a:lnTo>
                    <a:pt x="2748" y="953"/>
                  </a:lnTo>
                  <a:lnTo>
                    <a:pt x="0" y="0"/>
                  </a:lnTo>
                  <a:close/>
                  <a:moveTo>
                    <a:pt x="0" y="0"/>
                  </a:move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5"/>
            <p:cNvSpPr/>
            <p:nvPr/>
          </p:nvSpPr>
          <p:spPr>
            <a:xfrm>
              <a:off x="471600" y="6284880"/>
              <a:ext cx="193680" cy="1936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6"/>
            <p:cNvSpPr/>
            <p:nvPr/>
          </p:nvSpPr>
          <p:spPr>
            <a:xfrm>
              <a:off x="3467160" y="8767800"/>
              <a:ext cx="206280" cy="2062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784520" y="61452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2120" y="-360"/>
            <a:ext cx="12128400" cy="200340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ctr">
            <a:noAutofit/>
          </a:bodyPr>
          <a:p>
            <a:pPr marL="419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b2b2b2"/>
                </a:solidFill>
                <a:latin typeface="Lucida Grande"/>
                <a:ea typeface="Lucida Grande"/>
              </a:rPr>
              <a:t>Geography &amp; Culture</a:t>
            </a:r>
            <a:br>
              <a:rPr sz="6200"/>
            </a:br>
            <a:r>
              <a:rPr b="0" lang="en-US" sz="3800" spc="-1" strike="noStrike">
                <a:solidFill>
                  <a:srgbClr val="002d99"/>
                </a:solidFill>
                <a:latin typeface="Lucida Grande"/>
                <a:ea typeface="Lucida Grande"/>
              </a:rPr>
              <a:t>Challenges</a:t>
            </a:r>
            <a:endParaRPr b="0" lang="en-US" sz="3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241200" y="2185920"/>
            <a:ext cx="13004640" cy="7478640"/>
          </a:xfrm>
          <a:prstGeom prst="rect">
            <a:avLst/>
          </a:prstGeom>
          <a:noFill/>
          <a:ln w="0">
            <a:noFill/>
          </a:ln>
        </p:spPr>
        <p:txBody>
          <a:bodyPr lIns="38160" rIns="19800" tIns="38160" bIns="3816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514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99000"/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Disastrous </a:t>
            </a:r>
            <a:r>
              <a:rPr b="1" lang="en-US" sz="38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loods</a:t>
            </a:r>
            <a:r>
              <a:rPr b="0" lang="en-US" sz="3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from the Huang He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4572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9000"/>
              <a:buFont typeface="Lucida Grande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Only </a:t>
            </a:r>
            <a:r>
              <a:rPr b="1" lang="en-US" sz="34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10%</a:t>
            </a:r>
            <a:r>
              <a:rPr b="0" lang="en-US" sz="3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 of China’s land is suitable for farm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977760" indent="-5140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99000"/>
              <a:buFont typeface="Lucida Grande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Geography did not make invasion impossi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1"/>
          <a:stretch/>
        </p:blipFill>
        <p:spPr>
          <a:xfrm>
            <a:off x="3365640" y="5613480"/>
            <a:ext cx="5786280" cy="38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1-06T13:10:46Z</dcterms:modified>
  <cp:revision>4</cp:revision>
  <dc:subject/>
  <dc:title>Bell  Ringer</dc:title>
</cp:coreProperties>
</file>